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F23-875E-46A9-B773-8CF0B51A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9C6-DB9F-403B-96C4-9F670AB3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CB6-1F86-4621-B08C-DBE0E39E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193-88D2-42C2-ABCD-4A1CE719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C5C-4F11-418D-A979-D0A573DC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383-1014-4C7F-8E12-D4B71C57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BEE-F4DC-49A0-88CF-DD57BB13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468-998A-47FD-8AFB-D47810D5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042-3B85-4FBD-85F8-4E0B574B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D33-5A8C-4C2A-A681-A235C48F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72D-2E88-47E9-823C-27772973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AC9-77B4-4AD5-8C0A-E29D7AF9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C6E4-C4DC-4B43-AA20-37B60AE2551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ezentace na 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na stránkách www.esfcr.c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zadávací řízen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O webu ESFCR – všechny náv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cs-CZ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sp>
        <p:nvSpPr>
          <p:cNvPr id="60" name="Line 8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Line 16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Accenture</cp:lastModifiedBy>
  <dcterms:modified xsi:type="dcterms:W3CDTF">2012-04-23T08:38:51Z</dcterms:modified>
  <cp:revision>32</cp:revision>
  <dc:subject/>
  <dc:title>Snímek 1</dc:title>
</cp:coreProperties>
</file>